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A8817C26-B279-4D89-8AB0-E7FD603D39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8BF-3DDB-4ABD-998B-C797BF06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D8B-9E3A-414A-9136-0A28172A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37D-1938-4B98-9DFA-24492FD8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6FD-6DB8-4FEB-858F-6B7EFF7A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218-AF1F-4888-AE2C-4990CBE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B36-1DF0-41C6-845B-7C7B1809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E0A-C8B6-47C7-BDB7-8A796A0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867-02E1-4A8A-8DE8-1CAC6DC2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73F-D187-41D9-92B7-03DBF2BA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B34-0C8C-4007-B733-00A23CC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F24-AAD8-43A5-9DEA-C57E555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44C-8F20-4299-A325-F3C8E36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028B79-E2A6-4CCD-AE32-6A825C26F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66480" y="2065320"/>
            <a:ext cx="762696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Praises Heard Around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he World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rd your love has saved 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ecious blood has bathed 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Now your message takes 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an’t you hear them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them sing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people they’re rejoic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one voice they are shou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inging hal-le, halleluja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aises heard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o all creatio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ach and every natio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nding your salvatio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an’t you hear them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them sing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people they’re rejoic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one voice they are shou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inging hal-le, halleluja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aises heard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inst the demons figh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ly Spirit guid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mily we’re uni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an’t you hear them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them sing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people they’re rejoic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one voice they are shou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inging hal-le, halleluja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aises heard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eter</cp:lastModifiedBy>
  <dcterms:modified xsi:type="dcterms:W3CDTF">2011-05-18T02:25:09Z</dcterms:modified>
  <cp:revision>1913</cp:revision>
  <dc:subject/>
  <dc:title>Slide 1</dc:title>
</cp:coreProperties>
</file>